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38C-6428-427C-B726-B23333DB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DC9-9816-4A2D-B70A-1BD24ED9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3FC-A154-4E98-B1AC-681EC0B5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855-969B-4758-98C4-7076C676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2DB-52F9-4A23-A943-ACA9D66D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CBE-A2F4-418A-A047-6D215508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383-3ACF-4DF0-B61D-9E83964A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42F-93FB-4712-8904-105FCAC7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598-1FAF-4D11-BD5A-D5AA9DCC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E30-FB67-496D-82F1-58E2D56E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2CF-BD1E-44C8-838F-CB6646E4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3A6-8019-4349-BD6F-DB614DBE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1DA6-30EE-449E-AA02-00A860226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чет необходимого объема удобрения для внес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2565360"/>
            <a:ext cx="7704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м удобрения, мл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уемая дозировка, мг/л 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м аквариума, л : концентрацию вещества в удобрении, г/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есчет азота в нитрат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фосфора в фосф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трат = азот х  4,4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3 = 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4,4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сфат = фосфор х 3,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4 = P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3,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готовление монораствор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кроэлем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трат – 163гр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3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ить водой до 1 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центрация нитрата – 100г./л. (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3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сфат – 14,3гр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H2PO4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ить водой до 1 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нтрация фосфата – 10г./л.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ий – 120гр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2SO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лить водой до 1 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нтрац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лия – 50г./л. (К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ределение среднедневного потребления макроэле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ст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3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сено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ст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сено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280" y="5444640"/>
            <a:ext cx="8147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Дн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ная доза нитрата  – 40 / 7 = 6м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Дн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ная доза фосфата – 50 / 7 = 7м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ределение среднедневного потребления макроэле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484280"/>
          <a:ext cx="8229600" cy="3932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ст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3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сено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ст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сено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5:45:08Z</dcterms:created>
  <dc:creator>GOREZ</dc:creator>
  <dc:description/>
  <dc:language>en-US</dc:language>
  <cp:lastModifiedBy>GOREZ</cp:lastModifiedBy>
  <dcterms:modified xsi:type="dcterms:W3CDTF">2013-07-11T18:37:41Z</dcterms:modified>
  <cp:revision>8</cp:revision>
  <dc:subject/>
  <dc:title>Расчет необходимого объема удобрения для внесения</dc:title>
</cp:coreProperties>
</file>